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3852-AD2E-4BAD-A6CC-1500F47C2F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F442-E16F-4D27-8EAA-D423CC1D94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CC97-DFA5-4245-9D3C-5093BF237C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сия от 18.11.2009 г. Последнюю версию шаблона смотрите на сайте «Тестирование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 http://www.rosinka.vrn.ru/pp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227C-F269-4E17-A4CB-A3EE759AE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0584-7038-49FE-908D-73FC18CC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921C-98AC-4E73-A8FB-1FF12AA4D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50FE-0409-46CB-823E-E1D4BFE2A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CA92-F622-4BAB-ADED-F7FE6AA76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4AB8-6F21-4EDF-9FF7-79EF19DB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4001-D971-4923-9779-E8474CA3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E001-F9AD-4B54-9DB7-E79D43D8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DFC2-3520-407E-A71F-B6D15C07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8D9F-8780-46E3-AF32-045614A0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3607-A8C3-4D12-8561-1B3C5043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F2F2-A17A-404F-8EE7-8ECF64E5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933ED-9B8C-4B01-81F0-8F726D61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BB48-FFEE-4A96-ABA4-4075C208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649C-8A27-4514-8B83-E9E4CBEF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BBA4-3CF2-4539-9239-E197C9E96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C7E9-64B6-4635-A96D-BC260EAA8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127A-780C-4975-9F40-BF35EE0E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E271-035B-44D4-9451-1A7EA706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9463-C4EE-4D49-8602-6DB83B77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3D5C-FE35-4C05-8215-44CD9C2B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6B31-8058-4B43-8EAE-3ECACA57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2C5A-3B6F-4957-BDBC-D756D634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9C88-92F0-4887-A5DB-616EBE68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FF04-DEDE-42E9-A7FD-177CB67E0E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B07C-86AE-40AF-ABB4-653DAD0530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Ковалева О.А. г.Караганда КШДС № 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Тимофеева С.А. Литвиновский детский 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Bookman Old Style"/>
              </a:rPr>
              <a:t>Решить уравнение х²=25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  и -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41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42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42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43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44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3 и - 1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3 и – 1,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6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45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46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46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47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48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Прямоугольник 42"/>
          <p:cNvSpPr/>
          <p:nvPr/>
        </p:nvSpPr>
        <p:spPr>
          <a:xfrm>
            <a:off x="3112560" y="1143000"/>
            <a:ext cx="33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Bookman Old Style"/>
              </a:rPr>
              <a:t>Решить уравнение х²=1,69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√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8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499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0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2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503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4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5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8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509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2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3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4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515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0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521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6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Прямоугольник 42"/>
          <p:cNvSpPr/>
          <p:nvPr/>
        </p:nvSpPr>
        <p:spPr>
          <a:xfrm>
            <a:off x="3087720" y="1143000"/>
            <a:ext cx="35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Bookman Old Style"/>
              </a:rPr>
              <a:t>Вычислить: (3√7)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√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54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3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544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5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6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7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8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9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550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1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4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5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556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9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1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562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7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Прямоугольник 42"/>
          <p:cNvSpPr/>
          <p:nvPr/>
        </p:nvSpPr>
        <p:spPr>
          <a:xfrm>
            <a:off x="3100680" y="1143000"/>
            <a:ext cx="366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Bookman Old Style"/>
              </a:rPr>
              <a:t>Вычислить: √2 √3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√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√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+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0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581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4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585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6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0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591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4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6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597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8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9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0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1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02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603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4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5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6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7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0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Прямоугольник 42"/>
          <p:cNvSpPr/>
          <p:nvPr/>
        </p:nvSpPr>
        <p:spPr>
          <a:xfrm>
            <a:off x="3089160" y="1143000"/>
            <a:ext cx="33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Bookman Old Style"/>
              </a:rPr>
              <a:t>Вычислить: √2 +√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3 и - 1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3 и – 1,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решен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1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622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3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4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25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626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7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8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9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0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1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632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3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4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5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6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7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638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9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0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1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2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43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644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5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6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7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8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49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Прямоугольник 42"/>
          <p:cNvSpPr/>
          <p:nvPr/>
        </p:nvSpPr>
        <p:spPr>
          <a:xfrm>
            <a:off x="1643040" y="114300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Bookman Old Style"/>
              </a:rPr>
              <a:t>Решить уравнение х² = - 1,69</a:t>
            </a:r>
            <a:r>
              <a:rPr b="1" lang="ru-RU" sz="2000" spc="-1" strike="noStrike">
                <a:solidFill>
                  <a:srgbClr val="1f497d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Нет реш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17 и - 1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Rectangle 50"/>
          <p:cNvSpPr/>
          <p:nvPr/>
        </p:nvSpPr>
        <p:spPr>
          <a:xfrm>
            <a:off x="207180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1,7 и – 1,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2,8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Итоги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2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663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4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5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66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667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8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9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0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1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2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673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4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5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6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7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8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679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0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1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2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3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84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685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6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7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8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9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90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Прямоугольник 42"/>
          <p:cNvSpPr/>
          <p:nvPr/>
        </p:nvSpPr>
        <p:spPr>
          <a:xfrm>
            <a:off x="2000160" y="1143000"/>
            <a:ext cx="57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Bookman Old Style"/>
              </a:rPr>
              <a:t>Решить уравнение   х²=2,89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Out_Zd"/>
          <p:cNvSpPr/>
          <p:nvPr/>
        </p:nvSpPr>
        <p:spPr>
          <a:xfrm>
            <a:off x="1835280" y="6384960"/>
            <a:ext cx="503280" cy="32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Out_ver"/>
          <p:cNvSpPr/>
          <p:nvPr/>
        </p:nvSpPr>
        <p:spPr>
          <a:xfrm>
            <a:off x="5291280" y="3068640"/>
            <a:ext cx="1079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Out_proc"/>
          <p:cNvSpPr/>
          <p:nvPr/>
        </p:nvSpPr>
        <p:spPr>
          <a:xfrm>
            <a:off x="5291280" y="3789360"/>
            <a:ext cx="1079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Out_oc"/>
          <p:cNvSpPr/>
          <p:nvPr/>
        </p:nvSpPr>
        <p:spPr>
          <a:xfrm>
            <a:off x="6948360" y="3068640"/>
            <a:ext cx="1079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Tx_Zd"/>
          <p:cNvSpPr/>
          <p:nvPr/>
        </p:nvSpPr>
        <p:spPr>
          <a:xfrm>
            <a:off x="539640" y="6440400"/>
            <a:ext cx="122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Всего задани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Tx_Tim"/>
          <p:cNvSpPr/>
          <p:nvPr/>
        </p:nvSpPr>
        <p:spPr>
          <a:xfrm>
            <a:off x="6307200" y="6440400"/>
            <a:ext cx="172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трачено времен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AutoShape 12">
            <a:hlinkClick r:id="" action="ppaction://hlinkshowjump?jump=firstslide"/>
          </p:cNvPr>
          <p:cNvSpPr/>
          <p:nvPr/>
        </p:nvSpPr>
        <p:spPr>
          <a:xfrm>
            <a:off x="3564000" y="6384960"/>
            <a:ext cx="863640" cy="323640"/>
          </a:xfrm>
          <a:custGeom>
            <a:avLst/>
            <a:gdLst>
              <a:gd name="textAreaLeft" fmla="*/ 20880 w 863640"/>
              <a:gd name="textAreaRight" fmla="*/ 842760 w 86364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Снов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AutoShape 13">
            <a:hlinkClick r:id="" action="ppaction://hlinkshowjump?jump=endshow"/>
          </p:cNvPr>
          <p:cNvSpPr/>
          <p:nvPr/>
        </p:nvSpPr>
        <p:spPr>
          <a:xfrm>
            <a:off x="4716360" y="6384960"/>
            <a:ext cx="863640" cy="323640"/>
          </a:xfrm>
          <a:custGeom>
            <a:avLst/>
            <a:gdLst>
              <a:gd name="textAreaLeft" fmla="*/ 20880 w 863640"/>
              <a:gd name="textAreaRight" fmla="*/ 842760 w 86364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Выход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Rectangle 14"/>
          <p:cNvSpPr/>
          <p:nvPr/>
        </p:nvSpPr>
        <p:spPr>
          <a:xfrm>
            <a:off x="826920" y="3019320"/>
            <a:ext cx="420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Правильных ответ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Rectangle 15"/>
          <p:cNvSpPr/>
          <p:nvPr/>
        </p:nvSpPr>
        <p:spPr>
          <a:xfrm>
            <a:off x="826920" y="3740040"/>
            <a:ext cx="420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в процент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Rectangle 16"/>
          <p:cNvSpPr/>
          <p:nvPr/>
        </p:nvSpPr>
        <p:spPr>
          <a:xfrm>
            <a:off x="6357960" y="2349360"/>
            <a:ext cx="17143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Bookman Old Style"/>
              </a:rPr>
              <a:t>Оцен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Rectangle 17"/>
          <p:cNvSpPr/>
          <p:nvPr/>
        </p:nvSpPr>
        <p:spPr>
          <a:xfrm>
            <a:off x="687240" y="857160"/>
            <a:ext cx="77724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1f497d"/>
                </a:solidFill>
                <a:latin typeface="Bookman Old Style"/>
              </a:rPr>
              <a:t>Результаты</a:t>
            </a:r>
            <a:br>
              <a:rPr sz="5400"/>
            </a:br>
            <a:r>
              <a:rPr b="1" lang="ru-RU" sz="5400" spc="-1" strike="noStrike">
                <a:solidFill>
                  <a:srgbClr val="1f497d"/>
                </a:solidFill>
                <a:latin typeface="Bookman Old Style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Bookman Old Style"/>
              </a:rPr>
              <a:t>тестировани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Out_osh"/>
          <p:cNvSpPr/>
          <p:nvPr/>
        </p:nvSpPr>
        <p:spPr>
          <a:xfrm>
            <a:off x="2340000" y="4797360"/>
            <a:ext cx="5977080" cy="25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Zhdi" hidden="1"/>
          <p:cNvSpPr/>
          <p:nvPr/>
        </p:nvSpPr>
        <p:spPr>
          <a:xfrm>
            <a:off x="2592360" y="1793880"/>
            <a:ext cx="3959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69840">
            <a:solidFill>
              <a:srgbClr val="c0504d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Подождите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дет обработка данны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T_osh"/>
          <p:cNvSpPr/>
          <p:nvPr/>
        </p:nvSpPr>
        <p:spPr>
          <a:xfrm>
            <a:off x="928800" y="4645080"/>
            <a:ext cx="128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Bookman Old Style"/>
              </a:rPr>
              <a:t>Ошибки в выборе ответов на задания: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didaktor.ru/novaya-versiya-konstruktora-testov-ot-a-n-komarovskogo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Out_Zd"/>
          <p:cNvSpPr/>
          <p:nvPr/>
        </p:nvSpPr>
        <p:spPr>
          <a:xfrm>
            <a:off x="183528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Out_Tim"/>
          <p:cNvSpPr/>
          <p:nvPr/>
        </p:nvSpPr>
        <p:spPr>
          <a:xfrm>
            <a:off x="8053560" y="6386400"/>
            <a:ext cx="50292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Tx_Zd"/>
          <p:cNvSpPr/>
          <p:nvPr/>
        </p:nvSpPr>
        <p:spPr>
          <a:xfrm>
            <a:off x="539640" y="6442200"/>
            <a:ext cx="122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Всего задани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Tx_Tim"/>
          <p:cNvSpPr/>
          <p:nvPr/>
        </p:nvSpPr>
        <p:spPr>
          <a:xfrm>
            <a:off x="6227640" y="6442200"/>
            <a:ext cx="172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Время тестирован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x_min"/>
          <p:cNvSpPr/>
          <p:nvPr/>
        </p:nvSpPr>
        <p:spPr>
          <a:xfrm>
            <a:off x="8629560" y="6442200"/>
            <a:ext cx="432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мин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2571840" y="4714920"/>
            <a:ext cx="36432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Введите фамилию и им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684360" y="1285920"/>
            <a:ext cx="77724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1f497d"/>
                </a:solidFill>
                <a:latin typeface="Arial"/>
              </a:rPr>
              <a:t>Тест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1363680" y="278604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Bookman Old Style"/>
              </a:rPr>
              <a:t>По теме «Арифметический квадратный корень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Bookman Old Style"/>
              </a:rPr>
              <a:t>Ковалева О.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Bookman Old Style"/>
              </a:rPr>
              <a:t>Тимофеева С.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ass" hidden="1"/>
          <p:cNvSpPr/>
          <p:nvPr/>
        </p:nvSpPr>
        <p:spPr>
          <a:xfrm>
            <a:off x="1936800" y="204840"/>
            <a:ext cx="647640" cy="277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k" hidden="1"/>
          <p:cNvSpPr/>
          <p:nvPr/>
        </p:nvSpPr>
        <p:spPr>
          <a:xfrm>
            <a:off x="275436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8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fm" hidden="1"/>
          <p:cNvSpPr/>
          <p:nvPr/>
        </p:nvSpPr>
        <p:spPr>
          <a:xfrm>
            <a:off x="357336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tft" hidden="1"/>
          <p:cNvSpPr/>
          <p:nvPr/>
        </p:nvSpPr>
        <p:spPr>
          <a:xfrm>
            <a:off x="439272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fo" hidden="1"/>
          <p:cNvSpPr/>
          <p:nvPr/>
        </p:nvSpPr>
        <p:spPr>
          <a:xfrm>
            <a:off x="521172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fs" hidden="1"/>
          <p:cNvSpPr/>
          <p:nvPr/>
        </p:nvSpPr>
        <p:spPr>
          <a:xfrm>
            <a:off x="6031080" y="20628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6" name="Group 20"/>
          <p:cNvGrpSpPr/>
          <p:nvPr/>
        </p:nvGrpSpPr>
        <p:grpSpPr>
          <a:xfrm>
            <a:off x="226800" y="907560"/>
            <a:ext cx="463680" cy="370440"/>
            <a:chOff x="226800" y="907560"/>
            <a:chExt cx="463680" cy="370440"/>
          </a:xfrm>
        </p:grpSpPr>
        <p:grpSp>
          <p:nvGrpSpPr>
            <p:cNvPr id="107" name="Group 21"/>
            <p:cNvGrpSpPr/>
            <p:nvPr/>
          </p:nvGrpSpPr>
          <p:grpSpPr>
            <a:xfrm>
              <a:off x="228600" y="919080"/>
              <a:ext cx="461880" cy="357120"/>
              <a:chOff x="228600" y="919080"/>
              <a:chExt cx="461880" cy="357120"/>
            </a:xfrm>
          </p:grpSpPr>
          <p:sp>
            <p:nvSpPr>
              <p:cNvPr id="108" name="Freeform 22"/>
              <p:cNvSpPr/>
              <p:nvPr/>
            </p:nvSpPr>
            <p:spPr>
              <a:xfrm>
                <a:off x="228600" y="919080"/>
                <a:ext cx="461880" cy="35712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Freeform 23"/>
              <p:cNvSpPr/>
              <p:nvPr/>
            </p:nvSpPr>
            <p:spPr>
              <a:xfrm>
                <a:off x="250920" y="995760"/>
                <a:ext cx="111600" cy="224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Freeform 24"/>
              <p:cNvSpPr/>
              <p:nvPr/>
            </p:nvSpPr>
            <p:spPr>
              <a:xfrm>
                <a:off x="250920" y="1228680"/>
                <a:ext cx="36360" cy="25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Freeform 25"/>
              <p:cNvSpPr/>
              <p:nvPr/>
            </p:nvSpPr>
            <p:spPr>
              <a:xfrm>
                <a:off x="302400" y="1078200"/>
                <a:ext cx="109800" cy="176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Freeform 26"/>
              <p:cNvSpPr/>
              <p:nvPr/>
            </p:nvSpPr>
            <p:spPr>
              <a:xfrm>
                <a:off x="429480" y="1097640"/>
                <a:ext cx="56520" cy="155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Freeform 27"/>
              <p:cNvSpPr/>
              <p:nvPr/>
            </p:nvSpPr>
            <p:spPr>
              <a:xfrm>
                <a:off x="504000" y="1123560"/>
                <a:ext cx="26280" cy="83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Freeform 28"/>
              <p:cNvSpPr/>
              <p:nvPr/>
            </p:nvSpPr>
            <p:spPr>
              <a:xfrm>
                <a:off x="510120" y="1140840"/>
                <a:ext cx="173880" cy="11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5" name="Group 29"/>
            <p:cNvGrpSpPr/>
            <p:nvPr/>
          </p:nvGrpSpPr>
          <p:grpSpPr>
            <a:xfrm>
              <a:off x="226800" y="907560"/>
              <a:ext cx="461880" cy="357480"/>
              <a:chOff x="226800" y="907560"/>
              <a:chExt cx="461880" cy="357480"/>
            </a:xfrm>
          </p:grpSpPr>
          <p:sp>
            <p:nvSpPr>
              <p:cNvPr id="116" name="Freeform 30"/>
              <p:cNvSpPr/>
              <p:nvPr/>
            </p:nvSpPr>
            <p:spPr>
              <a:xfrm rot="10800000">
                <a:off x="226800" y="907560"/>
                <a:ext cx="461880" cy="357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Freeform 31"/>
              <p:cNvSpPr/>
              <p:nvPr/>
            </p:nvSpPr>
            <p:spPr>
              <a:xfrm rot="10800000">
                <a:off x="554760" y="963360"/>
                <a:ext cx="111600" cy="22500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Freeform 32"/>
              <p:cNvSpPr/>
              <p:nvPr/>
            </p:nvSpPr>
            <p:spPr>
              <a:xfrm rot="10800000">
                <a:off x="630000" y="929160"/>
                <a:ext cx="36360" cy="2592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Freeform 33"/>
              <p:cNvSpPr/>
              <p:nvPr/>
            </p:nvSpPr>
            <p:spPr>
              <a:xfrm rot="10800000">
                <a:off x="505080" y="929160"/>
                <a:ext cx="109800" cy="17676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Freeform 34"/>
              <p:cNvSpPr/>
              <p:nvPr/>
            </p:nvSpPr>
            <p:spPr>
              <a:xfrm rot="10800000">
                <a:off x="431280" y="930240"/>
                <a:ext cx="56520" cy="15624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Freeform 35"/>
              <p:cNvSpPr/>
              <p:nvPr/>
            </p:nvSpPr>
            <p:spPr>
              <a:xfrm rot="10800000">
                <a:off x="387000" y="977040"/>
                <a:ext cx="26280" cy="8352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Freeform 36"/>
              <p:cNvSpPr/>
              <p:nvPr/>
            </p:nvSpPr>
            <p:spPr>
              <a:xfrm rot="10800000">
                <a:off x="233280" y="930600"/>
                <a:ext cx="173880" cy="11232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3" name="Rectangle 37"/>
            <p:cNvSpPr/>
            <p:nvPr/>
          </p:nvSpPr>
          <p:spPr>
            <a:xfrm>
              <a:off x="230040" y="914400"/>
              <a:ext cx="457200" cy="363600"/>
            </a:xfrm>
            <a:prstGeom prst="rect">
              <a:avLst/>
            </a:prstGeom>
            <a:noFill/>
            <a:ln w="3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4" name="Dalee"/>
          <p:cNvSpPr/>
          <p:nvPr/>
        </p:nvSpPr>
        <p:spPr>
          <a:xfrm>
            <a:off x="3492360" y="6378480"/>
            <a:ext cx="2159280" cy="338400"/>
          </a:xfrm>
          <a:custGeom>
            <a:avLst/>
            <a:gdLst>
              <a:gd name="textAreaLeft" fmla="*/ 21600 w 2159280"/>
              <a:gd name="textAreaRight" fmla="*/ 2137680 w 2159280"/>
              <a:gd name="textAreaTop" fmla="*/ 21600 h 338400"/>
              <a:gd name="textAreaBottom" fmla="*/ 316800 h 338400"/>
            </a:gdLst>
            <a:ahLst/>
            <a:rect l="textAreaLeft" t="textAreaTop" r="textAreaRight" b="textAreaBottom"/>
            <a:pathLst>
              <a:path w="137703" h="21600">
                <a:moveTo>
                  <a:pt x="0" y="0"/>
                </a:moveTo>
                <a:lnTo>
                  <a:pt x="137703" y="0"/>
                </a:lnTo>
                <a:lnTo>
                  <a:pt x="137703" y="21600"/>
                </a:lnTo>
                <a:lnTo>
                  <a:pt x="0" y="21600"/>
                </a:lnTo>
                <a:close/>
              </a:path>
              <a:path fill="lightenLess" w="137703" h="21600">
                <a:moveTo>
                  <a:pt x="0" y="0"/>
                </a:moveTo>
                <a:lnTo>
                  <a:pt x="137703" y="0"/>
                </a:lnTo>
                <a:lnTo>
                  <a:pt x="136303" y="1400"/>
                </a:lnTo>
                <a:lnTo>
                  <a:pt x="1400" y="1400"/>
                </a:lnTo>
                <a:close/>
              </a:path>
              <a:path fill="darken" w="137703" h="21600">
                <a:moveTo>
                  <a:pt x="137703" y="0"/>
                </a:moveTo>
                <a:lnTo>
                  <a:pt x="137703" y="21600"/>
                </a:lnTo>
                <a:lnTo>
                  <a:pt x="136303" y="20200"/>
                </a:lnTo>
                <a:lnTo>
                  <a:pt x="136303" y="1400"/>
                </a:lnTo>
                <a:close/>
              </a:path>
              <a:path fill="darkenLess" w="137703" h="21600">
                <a:moveTo>
                  <a:pt x="1377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303" y="20200"/>
                </a:lnTo>
                <a:close/>
              </a:path>
              <a:path fill="lighten" w="1377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Начать тестиров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tim" hidden="1"/>
          <p:cNvSpPr/>
          <p:nvPr/>
        </p:nvSpPr>
        <p:spPr>
          <a:xfrm>
            <a:off x="6777000" y="2062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ff" hidden="1"/>
          <p:cNvSpPr/>
          <p:nvPr/>
        </p:nvSpPr>
        <p:spPr>
          <a:xfrm>
            <a:off x="7812000" y="20808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Bookman Old Style"/>
              </a:rPr>
              <a:t>Найти  (√3)²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²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3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14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14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15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16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Bookman Old Style"/>
              </a:rPr>
              <a:t>Найти  (2√3)²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6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51"/>
          <p:cNvSpPr/>
          <p:nvPr/>
        </p:nvSpPr>
        <p:spPr>
          <a:xfrm>
            <a:off x="2286000" y="3919680"/>
            <a:ext cx="41432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7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18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18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19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20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Bookman Old Style"/>
              </a:rPr>
              <a:t>Найти  (-√3)²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1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22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22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23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24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Bookman Old Style"/>
              </a:rPr>
              <a:t>Найти  (1-√3)²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Bookman Old Style"/>
              </a:rPr>
              <a:t>1-√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Bookman Old Style"/>
              </a:rPr>
              <a:t>4-√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Bookman Old Style"/>
              </a:rPr>
              <a:t>4-2√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-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5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26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26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27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28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Bookman Old Style"/>
              </a:rPr>
              <a:t>Найти  (1-√3)(1+√3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Bookman Old Style"/>
              </a:rPr>
              <a:t>(1-√3)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9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30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30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31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32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Bookman Old Style"/>
              </a:rPr>
              <a:t>Решить уравнение √</a:t>
            </a:r>
            <a:r>
              <a:rPr b="1" lang="en-US" sz="2800" spc="-1" strike="noStrike">
                <a:solidFill>
                  <a:srgbClr val="1f497d"/>
                </a:solidFill>
                <a:latin typeface="Bookman Old Style"/>
              </a:rPr>
              <a:t>x</a:t>
            </a:r>
            <a:r>
              <a:rPr b="1" lang="ru-RU" sz="2800" spc="-1" strike="noStrike">
                <a:solidFill>
                  <a:srgbClr val="1f497d"/>
                </a:solidFill>
                <a:latin typeface="Bookman Old Style"/>
              </a:rPr>
              <a:t>=3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²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9 и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33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34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34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35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36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Bookman Old Style"/>
              </a:rPr>
              <a:t>Решить уравнение х²=3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и -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и - √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√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37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38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38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39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40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0:01:00Z</dcterms:created>
  <dc:creator>Ковалева Ольга Александровна Тимофеева Светлана Александровна</dc:creator>
  <dc:description>Работает в MS PowerPoint 2003 и 2007</dc:description>
  <dc:language>en-US</dc:language>
  <cp:lastModifiedBy>Win</cp:lastModifiedBy>
  <dcterms:modified xsi:type="dcterms:W3CDTF">2012-10-20T14:07:58Z</dcterms:modified>
  <cp:revision>24</cp:revision>
  <dc:subject>Арифметический квадратный корень</dc:subject>
  <dc:title>Тренажер для учащихся</dc:title>
</cp:coreProperties>
</file>